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2.jpeg" ContentType="image/jpeg"/>
  <Override PartName="/ppt/media/image30.png" ContentType="image/png"/>
  <Override PartName="/ppt/media/image29.jpeg" ContentType="image/jpeg"/>
  <Override PartName="/ppt/media/image35.png" ContentType="image/png"/>
  <Override PartName="/ppt/media/image5.png" ContentType="image/png"/>
  <Override PartName="/ppt/media/image33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8CC-F5D4-4D49-BDC4-0904A3D6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FA6-FDC1-419A-A36B-B773D50E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B3C-9617-4AE7-8312-F4C8CE50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491-FD31-4B4D-9DEB-0347C808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01DB-1B35-4DC3-8C79-BDFA6539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283C-F6A9-457E-B1C4-5A577285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69A3-D575-4503-8463-2B0E0F1E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FE5-8A0B-4589-B241-27064379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B22-5A53-4007-A145-71FCA21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8EB5-A53F-4359-8BCD-1717EF5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D6F-1036-440E-93D1-CDB08E0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2B4-F1C6-4C26-9B61-7B66B9B2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0DA-1B7A-447E-9EEB-17E645B5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BC88-6B83-4E02-B339-8363E43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293F-909C-4BCC-8D63-99A6FD0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76C6-3FE6-48AB-94FA-6A16E984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29D6-30A7-4BCD-A7B4-910D6F0F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1DC-B13E-4535-9463-4D40515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801-B6C9-4FEF-B70B-9296026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24F-BF7F-4218-BAA9-0D777AE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6C6-F694-4755-BD79-2DD4807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277-AEEF-48B8-9E44-7096EA8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931-6104-43B4-8EFA-2394A56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3BD-0058-4522-A648-51155F9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84BB-32A2-47C5-AFAE-317A356F3C8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4CA3-982C-4298-A4C6-7949288E7E8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1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pter 5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Physical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Fix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pecialized anaerobic bacteria convert gaseous nitrogen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to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or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soil it is done by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Rhizobium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which are stored in nodules in legum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water it is done by cyanobacteria with special cells called heterocys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conversion of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or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 to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erobic bacteria convert to nitrite  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ions which are toxic to plan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n converts to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which the plants can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imi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lant roots absorb inorganic ammonia, ammonium ions and nitrate ions formed by nitrogen fixation and nitrification and make nitrogen containing organic molecul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NA, amino acids and protei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imals then eat these plants and consume needed nitroge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mmon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rganisms produce nitrogen waste (urea, uric acid and decomposed remain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cteria convert this waste back into inorganic nitrogen (ammonia and ammonium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now go through nitrification and assimilation ag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nitr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ually happens in swamps or bogs (anaerobic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version of ammonia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ammonium (N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back into nitri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nitrate (N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ions, then into nitrogen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and nitrous oxide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) and released into the atmosphere.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uman impac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mission of nitric oxide (NO) when burning fue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orms NO</a:t>
            </a:r>
            <a:r>
              <a:rPr b="0" lang="en-US" sz="24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nd reacts with water to form nitric acid (HNO</a:t>
            </a:r>
            <a:r>
              <a:rPr b="0" lang="en-US" sz="24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– acid rai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 in atmosphere from fertilizer via bacter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reen house gas and ozone deple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move nitrogen from earth’s crust and topsoi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d excess nitrogen to aquatic systems from agricultural runoff and sewag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cess nitrogen in soil causes “weedy” plants to grow (decreasing biodiversity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osphorus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ycles through living organisms, water and earth’s crust (not atmosphe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ust – Phosphate salts (PO</a:t>
            </a:r>
            <a:r>
              <a:rPr b="0" lang="en-US" sz="28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545472"/>
                </a:solidFill>
                <a:latin typeface="Tahoma"/>
              </a:rPr>
              <a:t>-3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 in ocean sediments weath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lants – Take up phosphates from soi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imals – Take in phosphates by eating pla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imal waste and decay returns phosphorus to soil (streams and ocea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ano returns nitrate and phosphate back to the so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lfur Cyc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st sulfur is stored in sedimentary rock and is released through ero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Atmosphere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r>
              <a:rPr b="1" lang="en-US" sz="2000" spc="-1" strike="noStrike" baseline="30000">
                <a:solidFill>
                  <a:srgbClr val="545472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a spray, forest fires, dust storm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H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Volcano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Burning of fossil fuels (produces acid rai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Living organisms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lants absorb sulfate from soil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nimals assimilate sulfur from plants and return sulfur to soil  and water through was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cean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arine algae release DMS into the atmosphere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et and dry deposition of sulfur back into the ocea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Bacteria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nvert sulfates back into to hydrogen sulfate gas or metallic sulfid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an perform photosynthesis using sulfur in extreme environment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 imp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rning of fossil fuels causes acid r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lfur in fossil fuels mixes with atmospheric oxygen to form SOx gases which mix with water to form sulfuric aci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crubbers are decreasing sulfur release from smoke stac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ning of sulfu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ogeochemical Cyc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nergy flows – open syst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tter cycles – closed syst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servation of mat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tter can be neither destroyed nor crea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can be transferred and it can leave the ecosyst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ydrologic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water is stored in the oce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Evapo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streams, rivers, lakes, soil, ocea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ranspi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veget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Condens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n clou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recipit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n land and wa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Runoff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filtr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f water in soil into eithe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groundwa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urface wa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7010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ar Radi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ithout sun – absolute z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n drives the water cycle, food web, carbon cycle, weath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lbed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reflectance off of the Earth’s surfa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igh – Ice sheets, glaciers (80-90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w – Pavement, buildings (10-20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eans and forests (5%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asons – Tempera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629400" cy="24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6629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ers of the atmosp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47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mospher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oposp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(10km/6.2miles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78% Nitr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1% Oxy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% Arg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.036% Carbon Diox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ssure decreases with altit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mperature decreases with altitude until it reaches the tropopause (zone between troposphere and stratosphere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" descr="AtmosGraph.gif (6392 bytes)"/>
          <p:cNvPicPr/>
          <p:nvPr/>
        </p:nvPicPr>
        <p:blipFill>
          <a:blip r:embed="rId9"/>
          <a:stretch/>
        </p:blipFill>
        <p:spPr>
          <a:xfrm>
            <a:off x="6553080" y="1828800"/>
            <a:ext cx="23353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tratospher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(10-24km/6.2-28mile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composition to troposphere, but less mat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ch less water (1000x les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ch more ozone (1000x mor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mperature rises with altitude until stratopa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ssure decreases with altit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bo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71089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Mes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45-80km/28-5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erature decreases with altitud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dest in atmo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erm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80-500km/50-31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mperature increases with altitud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Exosphere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500km/310miles) –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verges with interplanetary spa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fferential Heating of the Earth’s Su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03240" y="2819520"/>
            <a:ext cx="3745080" cy="319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76920" y="236232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20760" y="533520"/>
            <a:ext cx="8823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ir Density Causes Atmospheric Circ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6104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f the Earth did not rotate there would be a single cell in each hemi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33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riolis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  <a:ea typeface="Arial"/>
              </a:rPr>
              <a:t>The effect of a rotating planet of the molecules in the atmosphere (clouds and weather are good examples). There is a push to the right in the Northern Hemisphere and to the left in the souther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ote: Earth rotates from west to east</a:t>
            </a: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13000" y="320040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ttp://www.youtube.com/watch?v=_36MiCUS1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6400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s of the Coriolis Eff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43941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tmosphere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0.036% Carb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 lan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ored in all living organis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 wat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ssolved in water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rgest storage is in sedimentary rocks such as limestone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largest storage in ocea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jor Wind Be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934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d Bel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olar easterli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Blow from the NE near the North Pole  or from SE near the South Po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Westerli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Blow in mid-latitudes from the SE in northern hemisphere or from the NW is the southern hemi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rade Wind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From NE in the northern hemisphere or from the SE in the southern hemi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tterns of Circulation in the Oce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urr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Movements of surface ocean wa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yre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Wind belt that causes circular ocean curr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ock-wise in the northern hemisphere because of trade winds and westerl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nter clock-wise is the southern hemisphe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rface Ocean Curr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Surface drifts and currents of the ocean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cean Conveyor Belt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2" name="" descr="conveyor2.GIF (6924 bytes)"/>
          <p:cNvPicPr/>
          <p:nvPr/>
        </p:nvPicPr>
        <p:blipFill>
          <a:blip r:embed="rId2"/>
          <a:stretch/>
        </p:blipFill>
        <p:spPr>
          <a:xfrm>
            <a:off x="838080" y="1905120"/>
            <a:ext cx="723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Nino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l-Nino Southern Oscillation (ENSO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iodic (3-7yrs) warming of surface waters of the tropical East Pacific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de winds weaken and warm water expands eastward towards South Americ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reases surface temperatures 3-4 degre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Upwelling</a:t>
            </a:r>
            <a:br>
              <a:rPr sz="4000"/>
            </a:b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109960" y="0"/>
            <a:ext cx="543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ducers tak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rom atmosphere and convert it to organic molecules such as C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ducers then release some through respiration or decomposi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omposition on land produces fossil fue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olcanic eruptions free carbon deep in earth’s crus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bustion releases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nto the atmosphe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ter Effects of El Ni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9" name="" descr="scientific data of el nino"/>
          <p:cNvPicPr/>
          <p:nvPr/>
        </p:nvPicPr>
        <p:blipFill>
          <a:blip r:embed="rId2"/>
          <a:stretch/>
        </p:blipFill>
        <p:spPr>
          <a:xfrm>
            <a:off x="1066680" y="1981080"/>
            <a:ext cx="723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11520" y="1752480"/>
            <a:ext cx="4632480" cy="5105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514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9072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Wikipedia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N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rface waters are cooler than usual because trade winds are stronge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ccur after El Nino ev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predictable weather effect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ilar things happen in the ocea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ssolved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 reacts with seawater to produc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and H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se ions can react with Ca</a:t>
            </a:r>
            <a:r>
              <a:rPr b="0" lang="en-US" sz="3200" spc="-1" strike="noStrike" baseline="30000">
                <a:solidFill>
                  <a:srgbClr val="545472"/>
                </a:solidFill>
                <a:latin typeface="Tahoma"/>
              </a:rPr>
              <a:t>+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o produce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Ca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then builds limestone bed under ocean flo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s temperature increases more CO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rom water is release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crease of Carbon Dioxide in Atmosph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8" name="" descr="{short description of image}"/>
          <p:cNvPicPr/>
          <p:nvPr/>
        </p:nvPicPr>
        <p:blipFill>
          <a:blip r:embed="rId2"/>
          <a:stretch/>
        </p:blipFill>
        <p:spPr>
          <a:xfrm>
            <a:off x="1219320" y="1981080"/>
            <a:ext cx="73911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itrogen 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be in many forms in the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78% of the atmosphere is made up of nitrogen gas (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is not absorbed by plants or anima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2:40:35Z</dcterms:created>
  <dc:creator>Pace Academy</dc:creator>
  <dc:description/>
  <dc:language>en-US</dc:language>
  <cp:lastModifiedBy>Jonathan Day</cp:lastModifiedBy>
  <cp:lastPrinted>2003-10-16T12:01:41Z</cp:lastPrinted>
  <dcterms:modified xsi:type="dcterms:W3CDTF">2008-08-12T19:50:28Z</dcterms:modified>
  <cp:revision>28</cp:revision>
  <dc:subject/>
  <dc:title>Chapter 6 </dc:title>
</cp:coreProperties>
</file>